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535-42CD-47BA-86CB-5D64762D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72C-793B-4233-844A-75E3209E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EE5-B93A-4061-A3A7-25D18791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FFC-975D-4C98-BDC6-DB13274B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18F-B530-4D85-B1AA-3EC0EDFF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92D-A213-4A18-8B39-0969ABD2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243-1B72-49B3-890C-CFA3CB58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216-ABAC-4D3C-AB22-D63F8729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E6A-10BB-46FA-A353-7478D94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B99-3012-4C5C-A37C-1E60561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ABE-E5BC-44FE-B123-B6523775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427-0894-4897-8942-2AF7718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3D65-E3F7-456D-9ED6-90F38F17E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15200" y="5884920"/>
            <a:ext cx="1600200" cy="820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600200" cy="8208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MX System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EE USB Firmware for ColdFire MCF5222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Other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B Hos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B Host Driver, MST, HID Class Drivers and a limited function FAT file system is provided with MCF5222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 On Components available for purcha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Mass Storage + FAT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Storage Boot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lass Drivers (Printer, CD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RTX and CMX-TINY+ RT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MicroNet and CMX TCP/IP S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480" y="76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B Host Bootlo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build of the USB host, with mass storage and FAT file system which allows a device to be reliably field upgraded from a flash memory stic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reliable Bootloader sits in first 16K of flash never to be over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ss Driv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host class drivers available and 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er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C S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480" y="76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0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, object only version provided with MCF5222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 system provides full feature set and is optimized for small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 system provides full feature set but also includes many performance enhancing options including various caching mech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ll FAT File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981080"/>
            <a:ext cx="716292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X-FF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 Failsafe FFS with RAM Dr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X-FFS-FA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12/16/3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X-FFS-TH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12/16/32 File System for Microprocessors with limited RAM/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X-FFS-TIN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mited Resource Failsafe  System ( small sector, ST Serial fla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 Flash File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685800"/>
            <a:ext cx="80773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FF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ase Flash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2209680"/>
            <a:ext cx="6782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4440" indent="57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 Fail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r-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 secto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rivers for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FFS 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Flash File System Option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X-FFS-NOR: NOR Flash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X-FFS-NAND: NAND Flash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X-FFS-DF: Atmel DataFlash D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799"/>
              </a:spcBef>
              <a:buNone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838080"/>
            <a:ext cx="80773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FFS-F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T12/16/32 Compliant File System</a:t>
            </a:r>
            <a:r>
              <a:rPr b="1" i="1" lang="en-US" sz="3600" spc="-1" strike="noStrike">
                <a:solidFill>
                  <a:srgbClr val="44b9e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286000"/>
            <a:ext cx="8305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Fi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Flash (True IDE and Memory I/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C/SD (SPI S/W or H/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lash, Flash Translation and DataFlash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MX-FFS-FAT</a:t>
            </a:r>
            <a:br>
              <a:rPr sz="44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T File System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X-FFS-FAT-DF: Reliable Driver for Atmel Data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X-FFS-FAT-DFM: Simple Flash Translation Layer for Multiple Atmel DataFlash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X-FFS-FAT-SFTL: Simple Flash Translation Layer for NAN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X-FFS-FAT-FTL: Flash Translation Layer for NAND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85800"/>
            <a:ext cx="80773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FFS-TH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duced Footprint File System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209680"/>
            <a:ext cx="76197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 12/16/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Fil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 Flash (True IDE and Memory I/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C/SD (SPI S/W or H/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57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Flash, Flash Translation and DataFlash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igned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croprocesso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limited ROM/R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X provides a suite of free USB Firmware for MCF5222x which includ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B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B H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X also provides a variety of full featured products designed to decrease your time to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FFS-THIN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le System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FFS-THIN-DF: Reliable Driver for Atmel Data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FFS-THIN-DFM: Reliable Driver for Multiple Atmel DataFlash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FFS-THIN-SFTL: Simple Flash Translation Layer for NAND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FFS-THIN-FTL: Flash Translation Layer for NAND de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FFS-T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safe Flash File System for Microcontrollers with minim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ith small sector fla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in four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FFS-T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X-FFS-TINY-DF: Limited Resource Failsafe system for Atmel Data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X-FFS-TINY-DFM: Limited Resource Failsafe system for multiple Atmel DataFlash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X-FFS-TINY-ST: Limited Resource Failsafe system for ST Serial Fla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X-FFS-TINY-BW: Limited Resource Failsafe system for Small Sector Writeable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UC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Driver / Embedded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s embedded interface to Windows Explorer as standard pen-dr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resource of serial 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g and Drop” Upgrade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Options avail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UCD 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Driver / Embedded Interfac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UCD-RO: Windows Driver &amp; Embedded Interface for Serial; Read Only file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UCD-RW: Windows Driver &amp; Embedded Interface for Serial; Read/Write file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UCD-SBL: Serial Bootlo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6858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3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 Flash Fil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27944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7952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ly Portable (Virtually All Process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Stand Alone or integrated with RTOS or TCP/IP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X Real Time Operating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in over 4,000 Design Wins since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scale Processor Famili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HC08, 68HC11, 68HC12/68HCS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HC16, 68K, DSP563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d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066680"/>
            <a:ext cx="7543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RTX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Lean and Mean RT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711520"/>
            <a:ext cx="4190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emptiv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Interru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onfig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590920"/>
            <a:ext cx="38098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Foot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est Context       Switch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st Interrupt Latency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8985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RTX --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ruly Preemp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44792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44b9e2"/>
                </a:solidFill>
                <a:uFillTx/>
                <a:latin typeface="Times New Roman"/>
              </a:rPr>
              <a:t>CMX-RTX is </a:t>
            </a:r>
            <a:r>
              <a:rPr b="1" i="1" lang="en-US" sz="3000" spc="-1" strike="noStrike" u="sng">
                <a:solidFill>
                  <a:srgbClr val="44b9e2"/>
                </a:solidFill>
                <a:uFillTx/>
                <a:latin typeface="Times New Roman"/>
              </a:rPr>
              <a:t>TRULY PREEMPTIVE</a:t>
            </a:r>
            <a:r>
              <a:rPr b="1" lang="en-US" sz="3000" spc="-1" strike="noStrike" u="sng">
                <a:solidFill>
                  <a:srgbClr val="44b9e2"/>
                </a:solidFill>
                <a:uFillTx/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057400"/>
            <a:ext cx="7696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X-RTX allows a task of a higher priority that is able to run (whether from the start of its code or where it was executing last) to preempt a lower priority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X-RTX Scheduler saves context of running task (lower priority) and restores context of higher priority task (which becomes the running t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X-RTX also allows interrupts to cause an immediate task switch (ability for interrupt to use the RTOS’s fun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050840"/>
            <a:ext cx="63244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RTX</a:t>
            </a:r>
            <a:r>
              <a:rPr b="1" lang="en-US" sz="4000" spc="-1" strike="noStrike">
                <a:solidFill>
                  <a:srgbClr val="44b9e2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ategories of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819520"/>
            <a:ext cx="3962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r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819520"/>
            <a:ext cx="4038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phor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B Dev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B Device Drivers and HID, CDC Class Drivers are include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 On Components available for purcha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Storage + FAT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B Embedded P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B Reliable Fil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RTX and CMX-TINY+ RT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X-MicroNet and CMX TCP/IP Sta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TOS Configuration Mana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325520"/>
            <a:ext cx="6172200" cy="5246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010280" y="263376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Standard Windows GUI provides an intuitive and easy to use interface for configuring CMX RT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286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RTX..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MXBu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432080"/>
            <a:ext cx="1905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1742"/>
                </a:solidFill>
                <a:latin typeface="Times New Roman"/>
              </a:rPr>
              <a:t>This module provides the user with the ability to view and modify different aspects of the CMX-RTX multi-tasking environment, while the user’s application code is run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19400" y="915840"/>
            <a:ext cx="66196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RTX..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MXTr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355760"/>
            <a:ext cx="2362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1742"/>
                </a:solidFill>
                <a:latin typeface="Times New Roman"/>
              </a:rPr>
              <a:t>This module pro-vides the user with the ability to log chronologically in real-time, the tasks’ execution flow, the CMX-RTX functions called (and parameters), CMX-RTX interrupts using functions, and the CMX-RTX system TI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95480" y="152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RTX...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MXKAw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1447920"/>
            <a:ext cx="23619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71742"/>
                </a:solidFill>
                <a:latin typeface="Times New Roman"/>
              </a:rPr>
              <a:t>CMXKAware provides the user with the ability to view their programming applications running under an RTOS via their In-Circuit Emulators and Simulators  or ROM monitor debugger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460520"/>
            <a:ext cx="624852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95480" y="152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RTX...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MXKAw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2209680"/>
            <a:ext cx="304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1742"/>
                </a:solidFill>
                <a:latin typeface="Times New Roman"/>
              </a:rPr>
              <a:t>CMXKAware allows a developer to view kernel objects (i.e., tasks, mailboxes, cyclic timers, etc.) as shown in this graph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2811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Tiny+ ..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reme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“lean and mean” CMX-RTX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use in a “single-chip”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led down version of CMX-RTX, containing the most widely used functions and features, but designed for use with only the on-board ROM/RAM of the  proc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tremely lean and mean kernel for those processors that have a minimum 512 bytes of RAM embedded on the processor’s silic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Tiny+ Configuration Mana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156204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 TCP/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828800"/>
            <a:ext cx="6324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le TCP/IP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, Multi-tasking Re-entran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Memory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etwork Protocols &amp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TF RFC Compliant TCP/IP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 TCP/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600200"/>
            <a:ext cx="79246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le Drivers for Many Ethernet 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, TCP, IP, ICMP, IGMP, DNS, ARP, BOOTP, SLIP,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OS Porting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BSD Socket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formance Socket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s with or without RT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76320" y="974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 TCP/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730600"/>
            <a:ext cx="190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P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782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d On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2730600"/>
            <a:ext cx="312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ne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68600" y="287820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480" y="76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X-USB Bootlo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reliable Bootloader sits in first 8K of flash never to be overwrit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 program can connect to it though USB Embedded Pipe using any windows application environment you cho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use the DFU class (Device Firmware Upgrade) which requires a special windows dri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76320" y="1600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Micro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9242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CP/IP Networking with Limited ROM/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Micro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le Drivers for Many Ethernet Contro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P, TCP, IP, ICMP, IGMP, DNS, ARP, BOOTP, SLIP Protoco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OS Porting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erformance Socket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with or without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74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Micro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6606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dd On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2590920"/>
            <a:ext cx="3429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TTP Web 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TP Client/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FTP Cl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HCP Cl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95280" y="259092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Ether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MP V1 &amp; 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7632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Micro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143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Internet Protocol St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2133720"/>
            <a:ext cx="6019920" cy="2819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95680"/>
            <a:ext cx="586728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38480"/>
            <a:ext cx="129528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038480"/>
            <a:ext cx="129528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4038480"/>
            <a:ext cx="129528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x/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038480"/>
            <a:ext cx="129528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581280"/>
            <a:ext cx="541008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3124080"/>
            <a:ext cx="434340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3124080"/>
            <a:ext cx="99072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666880"/>
            <a:ext cx="99072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2666880"/>
            <a:ext cx="76212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666880"/>
            <a:ext cx="76212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2666880"/>
            <a:ext cx="76212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666880"/>
            <a:ext cx="76176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666880"/>
            <a:ext cx="99036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209680"/>
            <a:ext cx="5867280" cy="381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ddf5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4066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7242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2666880"/>
            <a:ext cx="0" cy="175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666880"/>
            <a:ext cx="0" cy="175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178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4540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ysic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ly a Selection of Protocols Might Be Needed for an Embedde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71600" y="6858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0880"/>
            <a:ext cx="91440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MicroN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uns With or Without an 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981080"/>
            <a:ext cx="822960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ed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Cod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TOS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Multiple Sockets 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Response for Multiple Open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Blocking When Waiting for Packets on a S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114300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MicroNet and Free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Fire - supports both CMX-MicroN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MX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12/HCS12 - supports CMX-Micro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8K or CPU32 - supports CMX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- supports both CMX-MicroN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MX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PC - supports CMX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28800" y="334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X-MicroNet Configuration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2633760"/>
            <a:ext cx="16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Standard Windows GUI provides an intuitive and easy to use interface for configuring CMX-Micro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6858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7632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Micro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9907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676520"/>
            <a:ext cx="8153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and Proven with Hundreds of Design Wins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oprietary Protoc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Portable (Most 8-, 16-, 32-bit process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Stand Alone or with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ourc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oyal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6858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69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Micro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3557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undreds of Design Wins, 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286000"/>
            <a:ext cx="2590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BB Auto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itish Telecom Payph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merson Appli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sher Contr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 Interlog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286000"/>
            <a:ext cx="26672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uc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rs Electron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tsushita Electric 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rdson Cor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hil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exus Technolog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286000"/>
            <a:ext cx="297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ythe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obert Bosch Gmb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emens V.D.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mpson Elect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rian Medical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ia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050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X-MicroNet Articles in the 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905120"/>
            <a:ext cx="75438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networking Treads on MCU Tu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eet.com/story/OEG20010521S00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rcuit Cel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Detailed Look at the CMX-Micro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ircuitcellar.com/library/print/1104/Eady172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480" y="76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X-USB-Mass Sto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Storage driver makes the MCF5222x appear as a standard flash dri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media would typically be an SD card connected by SP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X THIN file system can be used to access the media while windows is not conn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23336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X-MicroNet or CMX TCP/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2438280"/>
            <a:ext cx="33526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MX-Micro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Bit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or 32-bit Processors with Limit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d for Small Memor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2519280"/>
            <a:ext cx="3809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MX 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 and 32-Bit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TF RFC Compliant TCP/IP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Fea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14600"/>
            <a:ext cx="0" cy="3276720"/>
          </a:xfrm>
          <a:prstGeom prst="line">
            <a:avLst/>
          </a:prstGeom>
          <a:ln w="9360">
            <a:solidFill>
              <a:srgbClr val="47b4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95280" y="685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203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 Systems..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Right Business Choic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2819520"/>
            <a:ext cx="4038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Royalties on Deploy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 User or Per Product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28195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ee Source Code 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ee Technical Support and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USB-Embedded Pi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driver which creates one or more COM objects on 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pipe through USB to target en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multiple USB device access 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any programming language ( I.e.VC++, VB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composit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use of USB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sy way to connect embedded application to your h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USB-RFI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liable File Inter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Storage is great for flash drives but causes problems for other applica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d to use FAT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liable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has control of the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USB-RFI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liable File Inter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XP USB RFI driver from CMX uses USB Embedded Pipe Driver to communicate between target file system and 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ally more like NFS typ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nd feel is identical to standard flash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ass Storage issues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X-USB Mass Sto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compatibility with CMX Flash File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: MMC/SD, HDD, NAND, DataFlash, Compact Fla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integrated with CMX Flash File Systems and provided as a complet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2:37:26Z</dcterms:created>
  <dc:creator/>
  <dc:description/>
  <dc:language>en-US</dc:language>
  <cp:lastModifiedBy>Chuck Behrmann</cp:lastModifiedBy>
  <dcterms:modified xsi:type="dcterms:W3CDTF">2007-03-16T15:07:28Z</dcterms:modified>
  <cp:revision>43</cp:revision>
  <dc:subject/>
  <dc:title>CMX Systems </dc:title>
</cp:coreProperties>
</file>